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199-1C41-4789-8B78-18DC19ED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7E5-AE1B-4578-841A-E4E0B96E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A3C-CBF4-4DA5-A3F2-B3AF27AB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5BD-BBC3-4E1D-AE7B-DC67B4F6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FA3-66D2-4201-9482-B26F4A48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9B9-CFD4-46AC-8E76-95C52272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D29-903D-48BF-97F6-F0A66564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949-ACC3-4A76-9698-E9D8E968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8C8-C786-4FC4-BB2C-CEE5CACD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FC4-065A-45DF-8AC5-8FF7796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FD8-0978-4766-92E2-0B48CBDD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C72-06DD-4DDF-80CB-0323895B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A8D-A423-4C3B-851D-20F09E931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ное средство «Демограф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587700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: студент группы 05 МОС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онов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цель курсов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программное средство, предоставляющее возможность проводить анализ демографическ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ледуемы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4149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онятный и доступны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852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ть и реализовать алгоритм         анализа демограф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создании ПС интегрировать в него базу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44500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аботы с базам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– средство для рационального и эффективного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=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БД –ЯМД(языки манипулирования данными)+ СУБД(системы управления базами да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QL - разработан в 1974 году фирмой IBM для экспериментальной реляционной СУБД System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645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ый мо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язык ба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ональная 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0750" t="18136" r="19369" b="11855"/>
          <a:stretch/>
        </p:blipFill>
        <p:spPr>
          <a:xfrm>
            <a:off x="2771640" y="1773360"/>
            <a:ext cx="37450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544" t="23073" r="24903" b="40838"/>
          <a:stretch/>
        </p:blipFill>
        <p:spPr>
          <a:xfrm>
            <a:off x="2771640" y="4581360"/>
            <a:ext cx="33829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1640" y="1341360"/>
            <a:ext cx="7427880" cy="5112000"/>
            <a:chOff x="971640" y="1341360"/>
            <a:chExt cx="7427880" cy="5112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971640" y="1341360"/>
              <a:ext cx="742788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971640" y="1341360"/>
              <a:ext cx="742788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проведенной работы, было создано ПС «Демография» и с помощью него была проанализирована демографическая ситу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8:31:44Z</dcterms:created>
  <dc:creator>Константин</dc:creator>
  <dc:description/>
  <dc:language>en-US</dc:language>
  <cp:lastModifiedBy>Константин</cp:lastModifiedBy>
  <dcterms:modified xsi:type="dcterms:W3CDTF">2007-05-31T19:34:15Z</dcterms:modified>
  <cp:revision>20</cp:revision>
  <dc:subject/>
  <dc:title>Программное средство «Демография»</dc:title>
</cp:coreProperties>
</file>